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F9E3-AC2F-4428-A823-D2834DA5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5E6-7475-42D2-ACC0-DD31E3D7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1B9-38D5-4737-8DA1-7B7B3F98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8B7-05DC-4D31-8878-CAA83C2F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00C-EAF9-4434-B2B8-34AED975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3FB-CF40-4A03-A398-808FBA2B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695-10BB-402D-BE57-CA597209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18A-7E47-405A-84C7-A3A0E2AA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133-5DE4-4CC1-A6AA-9C0BF147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D82-0E38-4FE1-8ECE-08BFA933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B2D-68C4-4862-BDBE-9AA9AF32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E656-DCBE-4115-8726-4A5A7C49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A529-543F-4668-A688-F30EB130C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JAH 28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y great work here …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job, girls…well-explained.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verall…some minor grammar and spelling issues.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job!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work, girls!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3:04:40Z</dcterms:created>
  <dc:creator>nbdoe</dc:creator>
  <dc:description/>
  <dc:language>en-US</dc:language>
  <cp:lastModifiedBy>nbdoe</cp:lastModifiedBy>
  <dcterms:modified xsi:type="dcterms:W3CDTF">2007-05-11T13:22:46Z</dcterms:modified>
  <cp:revision>2</cp:revision>
  <dc:subject/>
  <dc:title>Election 2007</dc:title>
</cp:coreProperties>
</file>